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76A-A470-41FD-A41E-9A5BFA2F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57D-BE17-475E-8AF4-960367F0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BA7-187E-4ADB-8133-C5ECBE5A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6C7-C542-4C80-9500-FAB60489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A691-87C5-4D62-8547-5FC14648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E7B0-F771-46B4-97EE-A7A81604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85E6-4225-4B6A-B031-A905FAD3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62BB-A7D6-47BA-8FD1-352CBE2A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1291-E6FE-44A7-A86C-45C8C5EB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0CDF-070F-4977-9C80-81DCA326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DB1B-8826-42E6-A4D3-737FF43E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B5C-FA33-4BD2-9129-CB6C0B87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3B74-D23A-4567-BD2E-89CE699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9861-31CB-4C2C-8E96-9E82C124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8AB4-3E98-45BA-AEBD-DD5593AB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0C02-66FB-4517-B293-400B38CD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0D57-8E10-4E94-85CE-8F7A3622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572-D7E3-443B-A81B-B7C1D8B2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260-9BC2-497F-994E-68157E24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97F-CCED-4C10-82C3-118B26E1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39E-9B59-4A71-B3FB-7A76177B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8D0-EC20-4602-B330-C8110842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5F9-957D-45DD-8392-7C2D90A1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4FB-6C7A-4D93-B96B-0791C643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A560-0B4D-4333-90AC-C4B4CDD995EA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6A11-2034-4BA1-BC60-B8776BEFAD85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920" y="27734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Verdana"/>
              </a:rPr>
              <a:t>LICZNIK I MIANOWNIK UŁAM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64000" y="513864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my ułamek      w postaci iloraz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ZAD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11280" y="1628640"/>
          <a:ext cx="216072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628640"/>
                    <a:ext cx="216072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886280" y="171936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alowan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zęści, co zapisuj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597720" y="225900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211640" y="2798640"/>
            <a:ext cx="39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miętamy, że kreska ułamkowa zastępuje iloraz, zatem ułamek możemy zapisać ja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16640" y="3384720"/>
                <a:ext cx="73836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511280" y="998640"/>
            <a:ext cx="68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Figurę podzielono na 8 części. Ile części zamalow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132" descr=""/>
          <p:cNvPicPr/>
          <p:nvPr/>
        </p:nvPicPr>
        <p:blipFill>
          <a:blip r:embed="rId3"/>
          <a:stretch/>
        </p:blipFill>
        <p:spPr>
          <a:xfrm>
            <a:off x="1511280" y="4778280"/>
            <a:ext cx="3916440" cy="1179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11280" y="401472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Kostkę czekolady podzielono pomiędzy trójkę dzieci. Każde dziecko otrzymało     czeko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767720" y="513864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616280" y="5859360"/>
                <a:ext cx="203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41640" y="585936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7360" y="5859360"/>
                <a:ext cx="203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62720" y="4284720"/>
                <a:ext cx="2030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21640" y="5815080"/>
                <a:ext cx="809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NIO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7680" y="131328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łamek jest inną formą zapisu ilorazu dwóch licz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006640" y="2573280"/>
                <a:ext cx="1695240" cy="29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67000" y="3068640"/>
            <a:ext cx="35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cznik ułamka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zie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62360" y="3924360"/>
            <a:ext cx="46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eska ułamkowa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nak dziel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7720" y="473400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nownik ułamka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ziel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25:57Z</dcterms:modified>
  <cp:revision>39</cp:revision>
  <dc:subject/>
  <dc:title>Slajd 1</dc:title>
</cp:coreProperties>
</file>